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5FBDA4E-73ED-4199-A7EB-8708AE7F4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3A7C95A-6172-46F6-BAF7-A4B61D8ED7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623CA44-F2DF-40DD-AD8B-7BE897BE7F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F9EE91F-AAB5-4821-B767-C480711463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E6BEAE1-3464-40A2-904F-B760D01AB2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0D5E898-CAFB-4D07-A648-8C971823D3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61C8473-6200-4EBC-98D0-31062D67AD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002461F-0D4C-4D34-9DF2-3D4CD715C8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530F10E-0B80-4953-A882-3DCBBA50C7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5CD6089-8C1B-4E4C-A97C-90F5393102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A43A482-73F9-4C0F-9163-80F574FBEF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D6DEBD0-26A7-47AF-BB5E-8A4A53AFEC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B47C1DA-7BB7-426D-85C9-BD3B3DF586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CE5B251-93D3-4AF5-BA44-D27A11E14D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1812638-A5AC-4F77-8C97-DFBBF0B239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778DDC0-211C-4A77-BBF6-79545625BB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3C33488-25C7-45B3-A5C9-D6D574FF07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8344459-94A6-4C38-B4F2-A912E5CDA2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E2A2B6-1B0A-4927-AD5E-8A5451A6E4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F034469-FE36-4292-AA9F-65F65FBE37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3297A7D-BB5C-44E8-8F52-8C5F9C71E9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C0E32FC-8830-4283-A5F5-1D959D12F6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211E4E-DECE-4F86-B1C9-2187D04129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7F5A769-BE55-46A7-A530-F71B6A443C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D9A82DF-0B2F-4E3D-912A-AB92035B5E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1D934CD-1882-4B00-A4A8-F5D9FC0407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C36D621-A70F-4051-9276-FC6D5D257E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945100B-FE76-4F3E-877B-7A7F64AC77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C9B353E-FEA2-459A-85C1-E204AFB5BD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B327-981C-4A04-B3C1-1113ECE2C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hapter:10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ult Perpetrato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nipul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users have been characterized as the masters of mani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nusual to beg for forgiveness after an abusive at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s and flowers may accompany the statements that they will never “do it”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xcessive Rule Mak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 must follow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les suggests an unequal relationship based on domin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nalty or punishment is attached to the failure to fulfill expec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sol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s for constant attention to the exclusion of friends and family, isolating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user insists on being the only focus of the victim’s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forms include demands that the victim must not work or denial of transportation to leave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ic isolation increases vulnerability and places rural victims at a disadvantage to obtaining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yles of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violent styles used by men against women have been identif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yrannical Offen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ggression, intimidation, verbal abuse, and physical assault to control and dominate his part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ploder Offende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s the violence as being out of control, sudden, and explosive, typically in response to partner criticisms, challenge, or purs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igh- Risk Offende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 agree intimate partner battering is a pattern of behavior that follows predictable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ering in severe cases may be as frequent as 60 times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abuse occurs about 5 times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ngth of time in each stage can vary from hours to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nd control wheel used to illustrate the elements of power and contro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Duluth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wo Criteria to Identify High-risk Offender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iteria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ct initiated three or more instances of violence in the preceding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iteria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ct threatened a partner with a weapon or verbally threatened to kill the partner; medical treatment was needed; physical abuse of a child occurred; suspect was physically abused as a child; severe violence between the parents; suspect was drunk; drug abuse, extreme dominance, thinks it is okay for a man to hit wife; forced sex; destruction of property; killing or injury to p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Role of Alcohol and Drug 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160" y="1142640"/>
            <a:ext cx="842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have long linked alcohol abuse with male-perpetrated intimate partner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between female offending and substance abuse is less cl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and alcohol are not the cause of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significant relationship between excessive drinking and drug use with violence against intimate partn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is contributory rather than cau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ce abuse increases th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Role of Animal Cruelt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ewed interest in the link between intimate partner violence and animal ab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against pets is considered to be a predictor of adult violence in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ong predictor of violence against the intimate part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batterers use more forms of violence and demonstrate greater use of controlling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in domestic violence shelters were 11 times more likely to report that their partner hurt or killed their p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lice Officers Who Batt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98120" y="1066320"/>
            <a:ext cx="8116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to be at least as common as the general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physical abuse was approximately 7 percent to 8 percent, contrast to 10 general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percent to 40 percent of police families experience family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timate Partner Violence by Police Offic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es the policy and procedures. (IACP,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ilitary Personne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llenging due to the unique nature of the military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of jurisd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families live outside of military instal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incident that occurs off the military is under the jurisdiction of the local civilian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of civilian arrest and protection order violation arrest varies by s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partment of Defense has taken a strong proactive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903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1993, the rate of nonfatal intimate partner violence has decl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ine du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services for battere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ization of intimate partner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nvolvement of law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that have provided sa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of the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ty recognizes health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busive Men  --  Risk facto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ssive and hostile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social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ional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impuls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em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in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ciss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communication and soci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ree Types of Violent M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752480"/>
            <a:ext cx="834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only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8520" indent="-48852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horic or borderline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8520" indent="-48852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violent or antisocial offender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8520" indent="-48852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8520" indent="-48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batterers did not suffer from severe personality dysfunction and good candidates for cognitive-behavioral group therap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le Perpetrators of Marital Rap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as an unwanted intercourse or penetration (vaginal, anal, or oral) obtained by force, threat of force, or when the wife is unable to con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the extent of marital rape is compli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e is prohibited by law in all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 states still provide exemptions to husb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long-term and severe conseq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panied by other forms of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le Perpetrators of Dating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 with a family history of observing and experiencing abuse are more likely to inflict abuse, violence, and sexual aggression during the courtship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consumption of alcohol increases, the rate of serious injuries associated with dating violence also incr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s have sexually aggressive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ance of dating violence and rape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busive Wom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rates are equal to or greater than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-to-female violence is more harmful than female-to-male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victims more likely to be injured, to require medical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arrested have higher rates of ment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higher levels of vic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 victimization tends to be dismiss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emale Perpetrators of Physical Dating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are both victims and perpetrators f physical dating violence at the same rate or higher rate than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person may instigate violence, regardless of ge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assault at about the same rate as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ffenders Against Older Adul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 children were more likely than spouse to financially ab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use were more likely than adult children to physically ab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 percent of older victims were w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’ spouse and adult children were the most likely perpet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abuse are specific crimes to the aging popul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ive Categories of Older Adult Offenders Characteristic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8288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ed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ired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cissistic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eering or bullying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istic off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petrators of Sexual Abuse Against Older Adults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 1 percent of cases reported to  APS involve sexual abuse against an older ad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age of victims aged 50 and older ranged from 2.1 percent to 7 percent of adult sexual victim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nders ranged in age from 13 to 90 years old, largest group between 30 to 39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quarter of the perpetrators were strangers to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group comprised a family m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buser Characteristic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indicate a strong relationship between alcohol and/or drugs and intimate partner abuse committed by men against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association between alcohol use and battering in lesbian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ssion also linked with psychoactive drugs such as barbiturates, amphetamines, opiates, phencyclidine, cocaine, and alcohol cocaine combin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cteristics of Abusers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ly assessed problematic individu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ing poor impulse contr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r of intimac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onal depend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r of abandonment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ed ego func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ntal health diagnos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ssive-compulsive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derline personal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-aggressiv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rcissistic, and antiso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ender and Ag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fenders are men who perpetrate against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VS provides information on the prevalence of the c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 are the majority of offend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are the primary vict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e against a spouse, 86% of the offenders are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st a boyfriend or girlfriend, 82% were 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rators tend to be between 18 and 35 years old, median age about 3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scriptions of the Batterer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371600"/>
            <a:ext cx="834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and intim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 crue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rul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ontrolling Behaviors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he control is due to jealo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petrator seeks control over the victim’s time, dress, and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contem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lack of respect for the part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ear and Intimid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ieved through violence or the perception of impending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 recall a particular “look” from the offender that serves as a warning signal of an explosion that is about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imal Cruelt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ults who perpetrate intimate partner violence often abuse the victim’s pet(s) as a means to control and intimidate the surviv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% of battered women in a shelter reported current or past pet ownership and  their partner had threatened and/or actually hurt or killed one or more of their p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4:45:05Z</dcterms:modified>
  <cp:revision>141</cp:revision>
  <dc:subject/>
  <dc:title>Slide 1</dc:title>
</cp:coreProperties>
</file>